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639-616A-454B-A388-933B9139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93B-5628-45B3-9FBF-67E8921A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058-C465-4649-BC50-FF4D58BD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675-24B5-4E1B-99B3-B1EC5FD3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F31-F30A-4DCF-811C-03B3D8E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5C7-B018-46A4-BDC6-84B66816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477-E66D-492B-A35B-841CDA97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1DF-32B6-4B89-B98E-6E9C5DD4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F6C-6258-4A24-AC0D-3F83B1D1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8F1-27C8-4077-8808-17F5DBF6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13F-76B1-4EA2-83F4-75050B2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58A-A583-4F75-AEE2-48B7E1C3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4CB2-A271-40DF-B39B-8D54A6CF3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40000" y="-636840"/>
            <a:ext cx="6821640" cy="496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6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Тиха нощ! Свята нощ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Цяла зем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я е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в тишина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Виж, витлеемската светла звезд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мъдреци води от чужда стран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[:дето Христос се роди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67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238400" y="-27720"/>
            <a:ext cx="8882640" cy="3141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Тиха нощ! Свята нощ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есен сега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на похвал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ангели пеят със радостен глас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вест за спасение донасят до нас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[:"Ето, Спасител дойде!"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85960" y="-27720"/>
            <a:ext cx="9701280" cy="3141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Тиха нощ! Свята нощ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Цяла земя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ей с веселба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Почит на Бога нек всеки даде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че между нас днес Спасител дойде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[:Мир за всегда на земя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9:20:22Z</dcterms:created>
  <dc:creator>TrifonTrifonow</dc:creator>
  <dc:description/>
  <dc:language>en-US</dc:language>
  <cp:lastModifiedBy>TrifonTrifonow</cp:lastModifiedBy>
  <dcterms:modified xsi:type="dcterms:W3CDTF">2005-11-22T07:25:54Z</dcterms:modified>
  <cp:revision>7</cp:revision>
  <dc:subject/>
  <dc:title>Slide 1</dc:title>
</cp:coreProperties>
</file>